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7AA3-ED1C-48C2-B292-1FA260000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3865-08FD-4987-BD5F-195A8576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1BD4-5417-49D2-A639-E338CBA6B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DB04-2324-4552-A9D2-234258E37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4BC9-9519-4C61-81A0-C3DA2F48E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4C25-72A8-4161-A6F8-5C17A0B0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75BD-38E3-45E2-AC1D-9C9E7102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DA4D-4B17-48CC-B8C0-164C6DFC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2B7D-E89D-41BF-9D42-E47BF559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AF48-3A90-49D7-BA9E-4D2C66A4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7D9B-45EF-4E94-835B-A0FECFCC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607E-EA3F-42B0-BB31-AB280FD7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540D-6DD0-4AE4-BD99-FDB938C9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269B-D89E-45E7-B528-B9FECBA3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4DCC-7ADF-43D7-8A9F-8FC9568A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8260-1F88-4B3B-97FC-2BA236570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BF53-6534-42B4-A737-C0CFC4148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2C0D-1198-4D69-BCA8-4012D6EB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0886-027C-42A2-BD71-FA404D93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2EB1-8031-46A1-84C9-013EFBD5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F59E-5B98-424E-8607-23050849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4387-C9F9-43B7-801E-2EC5595A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8205-A6AE-4E85-9316-C84E663E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F68F-5384-4BE1-9868-7485E465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FA2E-A539-4465-87D0-101335ADA71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FOU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B77A-3DED-42C7-BB08-ECC239F58C3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Exercises 1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2857680" y="12859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142920" y="1571760"/>
            <a:ext cx="8643960" cy="42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δοξαν παρα ἀνθρωπων οὐ λαμβανω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πιστευεις εἰς τον υἱον του ἀνθρωπου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ὁ κυριος λεγει αὐτοις∙ Που αὐτους ἀγετε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ὁ Πετρος διδασκει αὐτους περι της βασιλειας παρα τοις ποιοις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ἀναβλεπομεν εις τον οὐρανον ἐνωπιον του ἱερο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ὁ Ἰησους ἐκβαλλει τα δαιμονια ἐκ του ἀωθρωπου λογ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2"/>
          <p:cNvSpPr/>
          <p:nvPr/>
        </p:nvSpPr>
        <p:spPr>
          <a:xfrm>
            <a:off x="214200" y="1343160"/>
            <a:ext cx="807264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Περιπατω ὑπο ἁμαρτιαν και κατα του νομου του θεο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ὁ Πετρος συναγει την ἐκκλησιαν εἰς τον οἰκον της ἀδελφης του Ἰακωβ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We are departing towards the se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You (pl.) are exhorting the brothers in the Lo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 you (s.) keep the Sabbath because of the la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people in the boat are worshipping the Lord</a:t>
            </a:r>
            <a:r>
              <a:rPr b="0" lang="en-GB" sz="2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Exercises 2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3000240" y="135720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60280" y="1714680"/>
            <a:ext cx="88837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ν τῃ ἡμερᾳ του κυριου βλεπομεν τον θεον προσωπο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κυριε, οὐ πιστευω εἰς αὐτο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προσκυνουμεν τῳ θεῳ ἐν τῳ ἱερ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δια την ὡραν ὁ κυριος ἀπολυει τον ὀχλο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περιπατειτε ἐν τῃ ἀγαπῃ του θεου κατα τον λογον αὐτου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ὁ αγγελος λυει τον Πετρον και παραλαμβανει αὐτον προς τους ἀδελφου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Exercises 3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0" y="1071720"/>
            <a:ext cx="900108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μετα την ἀρχην του σαββατον ὁ ῥαββι και οἱ υἱοι αὐτου οὐ ποιουσιν ἐργο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που ὁ κυριος διδασκει περι του εὐαγγελιου της βασιλειας του θεου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ary gathers the sisters and they seek the Lord with the broth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child dwells in the house of the Lord, and does not depart from 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voice of God is [</a:t>
            </a:r>
            <a:r>
              <a:rPr b="0" lang="el-GR" sz="2600" spc="-1" strike="noStrike">
                <a:solidFill>
                  <a:srgbClr val="ffffff"/>
                </a:solidFill>
                <a:latin typeface="Arial"/>
              </a:rPr>
              <a:t>ἐστιν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]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bove the heavens and in their hear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people do works on behalf of the children because of the love of Chris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Exercises 4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3000240" y="16095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571680" y="2436840"/>
            <a:ext cx="814356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1.1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ν ἀρχῃ ἦν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was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ὁ λόγος, καὶ ὁ λόγος ἦν πρὸς τὸν θεόν, και θεὸς ἦν ὁ λόγος. οὖτος 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this one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ἦν ἐω ἀρχῃ προς τὸν θεόν....ἐν αὐτῳ ζωὴ ἦν, καὶ ἡ ζωὴ ἦν τὸ φῶς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light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ῶν ἀνθρώπω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Exercises 5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12:46:41Z</dcterms:created>
  <dc:creator>Sarah</dc:creator>
  <dc:description/>
  <dc:language>en-US</dc:language>
  <cp:lastModifiedBy>Sarah</cp:lastModifiedBy>
  <dcterms:modified xsi:type="dcterms:W3CDTF">2008-09-07T14:17:43Z</dcterms:modified>
  <cp:revision>15</cp:revision>
  <dc:subject/>
  <dc:title>Slide 1</dc:title>
</cp:coreProperties>
</file>